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D4205-695B-44C8-BFAF-A4A9C27495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43FF7-3FFF-446F-8882-CB2E8F7CD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A0AB2-57AC-4A23-B94B-C1A44BB66C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E0E02-160F-4CD1-871E-291C3A9FEF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B4D22-EB3B-482A-8AF5-5DCDC59F6F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6E95-7E1A-4258-94B8-E26E25950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D06EA-D356-4092-99DE-432AA2735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D7816-2B35-4E1D-B347-BBC6DB1B2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A7060-00D1-4252-98FB-94E99ACFC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80CB-DCE9-492E-920C-216F2A6F3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03DC9-2579-4F04-A821-DB7EF550C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A38C9-7B46-4D8D-B368-47B713B7E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978-63E8-4F1A-8805-5B6EDE9F5D85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T-500 Serial 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B 2.0 &amp; IEEE 1394a &amp; Co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Storag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655640" cy="215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87308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59640" y="3213000"/>
            <a:ext cx="148248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88000" y="765000"/>
            <a:ext cx="156528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59640" y="5373720"/>
            <a:ext cx="1558800" cy="102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2637000"/>
            <a:ext cx="162864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724360" y="5084640"/>
            <a:ext cx="238320" cy="21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 rot="20238600">
            <a:off x="2700360" y="4653000"/>
            <a:ext cx="401760" cy="1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067280" y="404640"/>
            <a:ext cx="86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708360" y="5516640"/>
            <a:ext cx="1595520" cy="104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826920" y="5013360"/>
            <a:ext cx="89388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198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860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3640" y="4292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1628640"/>
            <a:ext cx="7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2205000"/>
            <a:ext cx="1081080" cy="647640"/>
          </a:xfrm>
          <a:prstGeom prst="wedgeRectCallout">
            <a:avLst>
              <a:gd name="adj1" fmla="val -23421"/>
              <a:gd name="adj2" fmla="val 169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head scr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011240" y="5910120"/>
            <a:ext cx="4546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286200" y="3611160"/>
            <a:ext cx="4546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 rot="1876200">
            <a:off x="8243640" y="3789360"/>
            <a:ext cx="401400" cy="17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5148000" y="522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7160" y="15048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newsflash/>
    <p:sndAc>
      <p:stSnd>
        <p:snd r:embed="rId1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01:30Z</dcterms:created>
  <dc:creator>Tony</dc:creator>
  <dc:description/>
  <dc:language>en-US</dc:language>
  <cp:lastModifiedBy>Tony</cp:lastModifiedBy>
  <dcterms:modified xsi:type="dcterms:W3CDTF">2005-05-19T02:43:18Z</dcterms:modified>
  <cp:revision>16</cp:revision>
  <dc:subject/>
  <dc:title>IOT-500 Serial  (USB 2.0 &amp; IEEE 1394a &amp; Combo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5344089</vt:r8>
  </property>
  <property fmtid="{D5CDD505-2E9C-101B-9397-08002B2CF9AE}" pid="3" name="_ReviewingToolsShownOnce">
    <vt:lpwstr/>
  </property>
</Properties>
</file>