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ind.wav" ContentType="audio/x-wav"/>
  <Override PartName="/ppt/media/image7.jpeg" ContentType="image/jpeg"/>
  <Override PartName="/ppt/media/image1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C5C4A-2462-4C80-9429-699B6709CB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72C4-564E-40AF-9EC3-98AB28CBBA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9B5B8-AB29-40C6-B2A2-30C41E3C3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285BD-B6E3-4D62-80E9-7413C2697D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B8AF0-F025-4F68-949A-99AFDCBE2A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4D1DE-EEE6-4042-932B-B1C72CED7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E5E7D-5CFA-4618-868F-71E942D5B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2C34-273B-4024-AB56-19C2E71C6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6D63-C70B-4947-B97F-DF905BE3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B1BB-5067-49CD-8DE4-DC175F57C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AB2DB-A3E9-493E-B6F9-2F4CB45D3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07C0E-80F9-44BC-BC00-61E847468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2530-27FF-4292-8DEE-F314DEBB1DCF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audio" Target="../media/wind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T-500 Serial 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B 2.0 &amp; IEEE 1394a &amp; Com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ile Storag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checker dir="horz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655640" cy="2156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1873080" cy="121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659640" y="3213000"/>
            <a:ext cx="1482480" cy="47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588000" y="765000"/>
            <a:ext cx="1565280" cy="995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659640" y="5373720"/>
            <a:ext cx="1558800" cy="102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84360" y="2637000"/>
            <a:ext cx="1628640" cy="119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724360" y="5084640"/>
            <a:ext cx="238320" cy="212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 rot="20238600">
            <a:off x="2700360" y="4653000"/>
            <a:ext cx="401760" cy="173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067280" y="404640"/>
            <a:ext cx="865080" cy="122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3708360" y="5516640"/>
            <a:ext cx="1595520" cy="104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826920" y="5013360"/>
            <a:ext cx="893880" cy="129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71640" y="98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64360" y="1989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6000" y="3933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580536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580536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38606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3141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203640" y="429264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1557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1628640"/>
            <a:ext cx="76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12000" y="2205000"/>
            <a:ext cx="1081080" cy="647640"/>
          </a:xfrm>
          <a:prstGeom prst="wedgeRectCallout">
            <a:avLst>
              <a:gd name="adj1" fmla="val -23421"/>
              <a:gd name="adj2" fmla="val 1698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ght up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head screw dr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1011240" y="5910120"/>
            <a:ext cx="45468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286200" y="3611160"/>
            <a:ext cx="4546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35640" y="9079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 rot="1876200">
            <a:off x="8243640" y="3789360"/>
            <a:ext cx="401400" cy="173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5148000" y="522936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7160" y="15048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newsflash/>
    <p:sndAc>
      <p:stSnd>
        <p:snd r:embed="rId13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03:01:30Z</dcterms:created>
  <dc:creator>Tony</dc:creator>
  <dc:description/>
  <dc:language>en-US</dc:language>
  <cp:lastModifiedBy>Tony</cp:lastModifiedBy>
  <dcterms:modified xsi:type="dcterms:W3CDTF">2005-05-19T02:43:18Z</dcterms:modified>
  <cp:revision>16</cp:revision>
  <dc:subject/>
  <dc:title>IOT-500 Serial  (USB 2.0 &amp; IEEE 1394a &amp; Combo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5344089</vt:r8>
  </property>
  <property fmtid="{D5CDD505-2E9C-101B-9397-08002B2CF9AE}" pid="3" name="_ReviewingToolsShownOnce">
    <vt:lpwstr/>
  </property>
</Properties>
</file>